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2A65-4AA1-47E0-96DA-F159D6E2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30D3-2E70-4BE4-81F2-709D4456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8D4-0CA8-463D-8A4C-8F9BA05A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EE1-7DFB-4FFA-AC23-A3A8D9634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085A-15BA-42E9-A78A-B79BEE11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B240-D488-4C0C-A725-D28BAD1D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0EC-1615-4A88-B00D-1CE297E5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462-E3AA-403C-9DFF-2483CD71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C6C-83B7-4394-BEA3-A91BBDA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FE08-9520-4364-B5AC-7B89D4C1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11E-77E9-4A11-A742-0DEE4A8F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46E0-1E9C-4479-8F10-3D06CEE2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A2BEC-ACAC-41EC-A31B-F4B769F2C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ayride013.jpg"/>
          <p:cNvPicPr/>
          <p:nvPr/>
        </p:nvPicPr>
        <p:blipFill>
          <a:blip r:embed="rId1"/>
          <a:srcRect l="9742" t="3333" r="8302" b="41113"/>
          <a:stretch/>
        </p:blipFill>
        <p:spPr>
          <a:xfrm>
            <a:off x="0" y="-152280"/>
            <a:ext cx="43434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Box 4"/>
          <p:cNvSpPr/>
          <p:nvPr/>
        </p:nvSpPr>
        <p:spPr>
          <a:xfrm>
            <a:off x="152280" y="990720"/>
            <a:ext cx="762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90720" y="987480"/>
            <a:ext cx="9144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rau Schla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133720" y="99072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3048120" y="762120"/>
            <a:ext cx="7617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rr Schla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380880" y="21304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urb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1981080" y="213048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os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3200400" y="205740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762120" y="3352680"/>
            <a:ext cx="13716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el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1905120" y="3352680"/>
            <a:ext cx="1066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x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3352680" y="3352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l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15" descr=""/>
          <p:cNvPicPr/>
          <p:nvPr/>
        </p:nvPicPr>
        <p:blipFill>
          <a:blip r:embed="rId2"/>
          <a:stretch/>
        </p:blipFill>
        <p:spPr>
          <a:xfrm>
            <a:off x="4645080" y="-365040"/>
            <a:ext cx="4200480" cy="97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6"/>
          <p:cNvSpPr/>
          <p:nvPr/>
        </p:nvSpPr>
        <p:spPr>
          <a:xfrm>
            <a:off x="4495680" y="422280"/>
            <a:ext cx="441972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sing the pictures to the left and the clues below, write the answer to the question  “ Wer bin ich?” and “Wer ist…?”  in complete German sentences.  Follow the exampl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Tiger. 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u bist Herr Schlau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Tiger?   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Herr Schlau ist ein Tiger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Frosch.  _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u bist_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Frosch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</a:t>
            </a:r>
            <a:r>
              <a:rPr b="0" i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ist ein Frosch.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Giraffe.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998"/>
              </a:lnSpc>
              <a:buClr>
                <a:srgbClr val="000000"/>
              </a:buClr>
              <a:buFont typeface="Bauhaus 93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Giraff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7"/>
          <p:cNvSpPr/>
          <p:nvPr/>
        </p:nvSpPr>
        <p:spPr>
          <a:xfrm>
            <a:off x="0" y="3809880"/>
            <a:ext cx="93726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Hund. 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Hund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Kater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Kater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Ent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Ent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 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Eul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Eul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e Hexe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e Hexe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bin ich?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ch bin ein weiblicher Frosch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1998"/>
              </a:lnSpc>
              <a:buClr>
                <a:srgbClr val="000000"/>
              </a:buClr>
              <a:buFont typeface="Bauhaus 93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uhaus 93"/>
              </a:rPr>
              <a:t>Wer ist ein weiblicher Frosch?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21:51:37Z</dcterms:created>
  <dc:creator>Hart</dc:creator>
  <dc:description/>
  <dc:language>en-US</dc:language>
  <cp:lastModifiedBy>Hart</cp:lastModifiedBy>
  <dcterms:modified xsi:type="dcterms:W3CDTF">2010-11-29T22:21:04Z</dcterms:modified>
  <cp:revision>1</cp:revision>
  <dc:subject/>
  <dc:title>Slide 1</dc:title>
</cp:coreProperties>
</file>